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AA2-48F9-44E5-8B0A-331988DB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F61D-F16B-4E41-9959-31511C22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4E2D-B478-4323-B98B-B2D76517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5B9E-A262-4315-A5AC-914682E3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1202-E622-40F1-B3D3-6F9BC10B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CD25-0082-4A43-85AE-AE55E7BF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5742-D643-4D34-9A9B-6852C5AC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09E0-4E7D-4619-BC95-68D51A47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D228-52B6-4279-BD98-352F65F6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2CDF-8FA3-43A9-9F64-25B91D69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ED0C-211E-4973-AA4F-5E57FE8B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E2EC-722B-48E7-9EB4-00E17C81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A6BA-6C98-4B92-9468-C85F89BD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C7A9-E868-45B4-9F1A-DE5E7949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06EE-AE24-4085-B5A4-4AC9271C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A2CE-1B85-4B5A-AB86-CD1A846D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1B8C-D072-4AEC-8592-9F757ECD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E69D-5C99-4395-8FAE-3D282442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467C-A0D2-41E5-96E3-7E3758CB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54E1-C715-41E6-998D-52CC4FAC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D807-1745-498B-BCC2-5A0617DF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ECA5-1D47-4F66-8A40-6F39E666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8E59-22A2-4E82-B907-6A0749FB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8C3E-B3ED-45E0-8F37-2EEAF8ED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ED25-8A67-457B-AC07-0A700F933D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E546-0DDB-4278-9D8A-E5397B946B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v areálu    Lázní Hodonín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ecký sníme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1280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Realizace záměru</a:t>
            </a: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 – z peněz stavby obchvatu</a:t>
            </a:r>
            <a:br>
              <a:rPr sz="1200"/>
            </a:br>
            <a:br>
              <a:rPr sz="1200"/>
            </a:br>
            <a:r>
              <a:rPr b="0" lang="en-US" sz="1400" spc="-1" strike="noStrike" u="sng">
                <a:solidFill>
                  <a:srgbClr val="ffffb7"/>
                </a:solidFill>
                <a:uFillTx/>
                <a:latin typeface="Arial Black"/>
              </a:rPr>
              <a:t>Jezero:</a:t>
            </a:r>
            <a:br>
              <a:rPr sz="14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Rozloha cca 17 ha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40 cm zeminy – 170 000m2 x 0,4 m= 68 000 m3  (možný prodej)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Do hloubky 2,5 – 4,5 m jsou písčité jíly 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Průměr 3,5 x 170 000m2=600 000 m3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Měrná hmotnost 1,2kg/m3 = </a:t>
            </a: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720 t písčitých jílů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Jemnozrnné štěrky 3,5 – 6,5m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Průměr 5m x 100 000m2= 500 000m3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Měrná hmotnost 2kg/m3 x 500 000m3= </a:t>
            </a: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1mil. t jemnozrnného štěrku</a:t>
            </a:r>
            <a:br>
              <a:rPr sz="1200"/>
            </a:br>
            <a:br>
              <a:rPr sz="1200"/>
            </a:br>
            <a:r>
              <a:rPr b="0" lang="en-US" sz="1400" spc="-1" strike="noStrike" u="sng">
                <a:solidFill>
                  <a:srgbClr val="ffffb7"/>
                </a:solidFill>
                <a:uFillTx/>
                <a:latin typeface="Arial Black"/>
              </a:rPr>
              <a:t>Prodej štěrku </a:t>
            </a:r>
            <a:br>
              <a:rPr sz="14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Stavební firma, která by vrstvy jílu a štěrku těžila by byla schopna vytěžit ročně: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cca 300 tis. M3 štěrku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cca 200 tis. M3 jílu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z celkové plochy cca 10 ha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Dále je firma schopna ročně prodat cca 150-300 tis. M3 štěrku. 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Jílové vrstvy by se použily na protipovodňový val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Současné ceny za tunu štěrku: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60 Kč – netříděný materiál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90 Kč –tříděný materiál</a:t>
            </a:r>
            <a:br>
              <a:rPr sz="1200"/>
            </a:br>
            <a:br>
              <a:rPr sz="1200"/>
            </a:b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Jezero:</a:t>
            </a:r>
            <a:br>
              <a:rPr sz="1600"/>
            </a:b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Štěrky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 - 1mil. t jemnozrnného štěrku x 60 Kč= </a:t>
            </a: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60 mil Kč</a:t>
            </a:r>
            <a:br>
              <a:rPr sz="1600"/>
            </a:b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1mil. t jemnozrnného štěrku x 90 Kč= </a:t>
            </a: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90 mil Kč</a:t>
            </a:r>
            <a:br>
              <a:rPr sz="16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Cena těžby ?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Písčité jíly</a:t>
            </a: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 – 600 000 m3= </a:t>
            </a: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720 t písčitých jílů 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– možnost uplatnit v protipovodňovém valu, nebo využití v rámci sendvičových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 násypů (střídání vrstev jílu s vhodnou zeminou)</a:t>
            </a:r>
            <a:endParaRPr b="1" lang="en-US" sz="1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b7"/>
                </a:solidFill>
                <a:uFillTx/>
                <a:latin typeface="Arial Black"/>
              </a:rPr>
              <a:t>Realizace</a:t>
            </a:r>
            <a:br>
              <a:rPr sz="20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Etapa č.1:</a:t>
            </a:r>
            <a:br>
              <a:rPr sz="16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Cyklostezka obousměrná  s chodníkem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cca 1,5 km x 3m x 1500 kč/m2 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6.750.000,-Kč.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Parkoviště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(min u jezu) bet. dlažba cca 2200m2 x 1600,-Kč  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3.520.000,- 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Příjezdová cesta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800Kč/m2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, 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00m=1.080.000 Kč</a:t>
            </a: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Zeleň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př. 30 450 m2 =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6.000.000,-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Úprava břehů jezera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– navážka př. 15000 m3 =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4.800.000,-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Osvětlení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– 1 ks á 10.000,-Kč X cca 150 Ks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.500.000 Kč 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L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avičky 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á 10.000,-Kč 30Ks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300 000 Kč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,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O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dpadkové koše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á 9.000,-Kč 15 Ks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35 000 Kč</a:t>
            </a: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Informační – navigační systém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–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200 000 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Celkem : </a:t>
            </a:r>
            <a:br>
              <a:rPr sz="1400"/>
            </a:br>
            <a:r>
              <a:rPr b="0" lang="cs-CZ" sz="2000" spc="-1" strike="noStrike" u="sng">
                <a:solidFill>
                  <a:srgbClr val="ffffb7"/>
                </a:solidFill>
                <a:uFillTx/>
                <a:latin typeface="Arial Black"/>
              </a:rPr>
              <a:t>24.285.000 – 30.000.000 Kč,-</a:t>
            </a:r>
            <a:br>
              <a:rPr sz="20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 </a:t>
            </a:r>
            <a:br>
              <a:rPr sz="14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Etapa č.2:</a:t>
            </a:r>
            <a:br>
              <a:rPr sz="1600"/>
            </a:b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mlatové chodníky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lávky přes Očovský járek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sportoviště  - víceúčelové hřiště 37x37m cca 4.000.000,-Kč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veřejné WC – cca 4.000.000,-Kč</a:t>
            </a:r>
            <a:br>
              <a:rPr sz="1400"/>
            </a:b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b7"/>
                </a:solidFill>
                <a:latin typeface="Arial Black"/>
              </a:rPr>
              <a:t>Vyjádření odborů.</a:t>
            </a:r>
            <a:br>
              <a:rPr sz="2400"/>
            </a:br>
            <a:br>
              <a:rPr sz="18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AM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Doporučuji další prověření záměru zadáním vypracování komplexního biologického průzkumu a  zadáním geologického průzkumu a provedením minimálně 2-4 vrtů v zamýšlené lokalitě. Bez těchto průzkumů nejsme schopni vypočítat předběžnou návratnost a realizovatelnost záměru.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ORM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K výkupu nemám námitek, dle stávajících podkladů není tento záměr stanoven jako priorita. Priority budou dohodnuty při realizaci strategického plánu. Doporučuji tento záměr posoudit současně s celkovou strategií.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IaD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Jako záměr pro rozvoj města to není špatná myšlenka, ale záměr nutno vyřešit nejdříve z hlediska vlastnických vztahů, tam však není priorita.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MPO: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Je nutné zvážit výši finančních prostředků pro vykupování pozemků – záměr je vhodný. 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ŽPaZ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Vzhledem k obrovské nákladnosti majetkových vztahů a dalším okolnostem nedoporučuji. Proto doporučuji zvážit i finanční náklady na zjišťovací proces.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DSA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Nutno prověřit, zda může být lázeňský park umístěn v suchém poldru. U sportovišť je nutné zajistit parkovací místa a zázemí šaten. </a:t>
            </a:r>
            <a:br>
              <a:rPr sz="1400"/>
            </a:br>
            <a:r>
              <a:rPr b="0" lang="cs-CZ" sz="1600" spc="-1" strike="noStrike">
                <a:solidFill>
                  <a:srgbClr val="ffffb7"/>
                </a:solidFill>
                <a:latin typeface="Arial Black"/>
              </a:rPr>
              <a:t>OKH</a:t>
            </a:r>
            <a:br>
              <a:rPr sz="16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Nepovažuji za prioritu města, doporučuji řešit až na to budou finanční prostředky.</a:t>
            </a: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v areálu    Lázní Hodonín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zemní plán města Hodonín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2010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v areálu    Lázní Hodonín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vrh: Ing. arch. R. Kubrická, architekt mě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3194280" cy="4392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356000" y="1628640"/>
            <a:ext cx="3194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na Očovských loukách v Hodoníně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ecký sním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1280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na Očovských loukách v Hodoníně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826920" y="98100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okalita Očovských luk z hlediska územního plánu města Hodoní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543640" cy="3456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5137200"/>
            <a:ext cx="856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Dle závazné části územního plánu je v současné době funkční využití tohoto území charakterizováno jako přírodní krajinná zóna (směrná část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Zpp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přírodní park). Územím prochází panelová komunikace, která od sídliště vymezuje rozvojové plochy pro veřejnou zeleň (směrná část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Zp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parky, sloužící pro odpočinek obyvatel) a sport a rekreaci (směrná část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Os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plochy pro sportovní zařízení). Blíže k veslařskému klubu je navržena plocha pro sportovní zařízení s možností koupání – přírodní koupaliště (ozn.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Osk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). Všechny výše uvedené rozvojové plochy jsou vymezeny jako veřejně prospěšné stavb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na Očovských loukách v Hodoníně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71640" y="573408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Lokalita Očovských luk z hlediska „NATURA 2000“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76108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71640" y="573408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971640" y="573408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0643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Ekonomická analýza záměru prodloužení lázeňského parku do prostoru Očovských luk.</a:t>
            </a:r>
            <a:br>
              <a:rPr sz="1400"/>
            </a:br>
            <a:br>
              <a:rPr sz="14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Výkupy pozemků</a:t>
            </a:r>
            <a:br>
              <a:rPr sz="16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Jezero 20 ha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Parky a sportoviště 50 ha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Cena cca 10 kč/m2 = </a:t>
            </a: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7 mil. Kč</a:t>
            </a:r>
            <a:br>
              <a:rPr sz="1600"/>
            </a:br>
            <a:br>
              <a:rPr sz="1200"/>
            </a:b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Geologický průzkum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průzkumy + studium – cca 13 3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vytýčení vrtů, geologické práce, laboratorní práce – 66 600 Kč +19% DPH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Celkem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95 000 Kč</a:t>
            </a:r>
            <a:br>
              <a:rPr sz="1200"/>
            </a:b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Zpracování PD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 biologický průzkum 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cca 70 000 tis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(Stanovení zásad diferenciace území z hlediska jeho přírodních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hodnot)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Rozptylová studie (parkoviště) 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10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Zpracování oznámení pro posouzení vlivu na ŽP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20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Hydrogeologický průzkum ?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Studie posouzení tech. stavu a likvidace sond cca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3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geometrické zaměření území</a:t>
            </a:r>
            <a:br>
              <a:rPr sz="12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Průzkumy a rozbory – cca 0.5 -0.7mil.  Kč,-</a:t>
            </a:r>
            <a:br>
              <a:rPr sz="1600"/>
            </a:br>
            <a:br>
              <a:rPr sz="16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PD pro ÚŘ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cca 0,5 mil. Kč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+ cenový odhad nákladů stavby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PD pro ST.Ř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.-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1,5 mil.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Prováděcí projekt ?</a:t>
            </a:r>
            <a:br>
              <a:rPr sz="12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Projekční práce cca 2-4 mil. Kč,-</a:t>
            </a:r>
            <a:br>
              <a:rPr sz="1600"/>
            </a:br>
            <a:br>
              <a:rPr sz="1600"/>
            </a:b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Vynětí ze ZPF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pokud je to v kvartelu Moravy - 1Ha cca 54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40% se po zaplacení vrátí městu Hodonín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Jezero - 20 ha x 540 000 Kč = 10,8 mil.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Park – 50 ha x 540 000 Kč = 27 mil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Vráceno městu 40% 15,12 mil. Kč</a:t>
            </a:r>
            <a:br>
              <a:rPr sz="12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Celkem za vynětí ZPF 22,7 mil. Kč</a:t>
            </a:r>
            <a:br>
              <a:rPr sz="1600"/>
            </a:b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13:43:23Z</dcterms:created>
  <dc:creator>Kubrická</dc:creator>
  <dc:description/>
  <dc:language>en-US</dc:language>
  <cp:lastModifiedBy>Kubrická</cp:lastModifiedBy>
  <dcterms:modified xsi:type="dcterms:W3CDTF">2005-05-02T07:59:30Z</dcterms:modified>
  <cp:revision>17</cp:revision>
  <dc:subject/>
  <dc:title>Snímek 1</dc:title>
</cp:coreProperties>
</file>